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700E-A952-4011-8076-E332EC8F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BADB-633F-4DFA-834B-C8465AF6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9890-9267-45F2-86A0-A0CE20F8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92DF-5F0E-4410-862F-065318AB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372B-CC59-400A-89F8-DEC791E2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3CFB-D32B-4FF4-B9CF-6C8C8EB8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3C2D-CD83-487D-8A7F-C8A640C0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38D5-7988-4E41-B935-E476BEC4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9918-3619-4888-8481-327A2EE1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B34-B283-4C37-8DB9-BAF3379F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D324-DB20-475E-86A2-E4C3FBEE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82AF-237E-471C-BD13-D145AF46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26CE-419D-4CAE-B316-6131DB6E3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3336"/>
          <a:stretch/>
        </p:blipFill>
        <p:spPr>
          <a:xfrm>
            <a:off x="609480" y="0"/>
            <a:ext cx="5715000" cy="88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4:53:18Z</dcterms:created>
  <dc:creator>Patrick J. Mooney</dc:creator>
  <dc:description/>
  <dc:language>en-US</dc:language>
  <cp:lastModifiedBy>Patrick J. Mooney</cp:lastModifiedBy>
  <dcterms:modified xsi:type="dcterms:W3CDTF">2011-01-11T14:56:52Z</dcterms:modified>
  <cp:revision>2</cp:revision>
  <dc:subject/>
  <dc:title>Slide 1</dc:title>
</cp:coreProperties>
</file>